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DA0F9-591F-4745-927B-EE2734AE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71C0D-C37D-4CDE-977C-AC621E0A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ABFB8-562D-41E0-A0B9-E4C33AAD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EC8DB-7E8C-4D68-A806-2F5C908B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A06B-F262-4B35-8BEC-3F5EAAAE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AD02-3AD3-4EEF-9BCC-04488BCB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E440-F6A4-427C-A634-6AC9E413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435A-5B8E-4C68-80A5-9C9C33C1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A277-B067-49FE-BDEC-DB9F61E9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EA97-2892-407D-A6E1-A9505E75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A72F-1E5B-46C5-8449-D07DF99A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9D103-3851-42D9-81A0-B4A5633D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7C7B-72E0-44AE-999B-BC148CD0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E974-24B6-4EF8-A6B6-91CAE893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98BD-6A0A-4046-92B5-F7CAFF42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A78D-B3D8-40DD-B2A5-E3CB3709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7A08-D602-4780-807C-E43BFDA7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42775-2B50-41AF-ACD1-76B3D688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18003-A2A6-4305-B23A-60327E7A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62E48-E7DF-495F-8123-0C0E5CB9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5D730-01C6-4B76-A420-52B7C755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C1C52-96DD-4B17-91E2-54B70D8E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A2B8B-4C44-4596-B5E8-47E8C7E2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B4969-3DED-4122-B74F-005E7378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04162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04162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04162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04162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3432-B63D-4219-889E-2E0EA22B94B2}" type="slidenum">
              <a:rPr b="0" lang="en-US" sz="1200" spc="-1" strike="noStrike">
                <a:solidFill>
                  <a:srgbClr val="20416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2041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2041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04162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04162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04162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04162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0C06-B946-4F7F-ADE8-C0BD0A1418E5}" type="slidenum">
              <a:rPr b="0" lang="en-US" sz="1200" spc="-1" strike="noStrike">
                <a:solidFill>
                  <a:srgbClr val="20416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2041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2041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cc00"/>
                </a:solidFill>
                <a:latin typeface="Arial"/>
              </a:rPr>
              <a:t>Me llamo _______ Clase 6NH</a:t>
            </a:r>
            <a:br>
              <a:rPr sz="3500"/>
            </a:br>
            <a:r>
              <a:rPr b="0" lang="en-US" sz="3500" spc="-1" strike="noStrike">
                <a:solidFill>
                  <a:srgbClr val="99cc00"/>
                </a:solidFill>
                <a:latin typeface="Arial"/>
              </a:rPr>
              <a:t>La fecha es el 29 de febrero del 2012</a:t>
            </a:r>
            <a:endParaRPr b="0" lang="en-US" sz="35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899136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opósito # 44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iénes dan los exámenes en la escuela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studias tú italiano en la escuela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la clase de música, ¿tocas un instrumento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omas tú muchos apuntes en la clase de español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ntestas muchas preguntas en la clase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Bailas tú mucho en las fiestas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0000"/>
                </a:solidFill>
                <a:latin typeface="Arial"/>
              </a:rPr>
              <a:t>Repaso de las palabras interrogativ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view of question words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cribe en españo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t what time?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0000"/>
                </a:solidFill>
                <a:latin typeface="Arial"/>
              </a:rPr>
              <a:t>Tarea # 44</a:t>
            </a: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WORKBOOK: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Completa p. R9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TRAER EL “PROGRESS REPORT” FIRMADO!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23:31:24Z</dcterms:created>
  <dc:creator>Helen Zumaeta</dc:creator>
  <dc:description/>
  <dc:language>en-US</dc:language>
  <cp:lastModifiedBy>Helen Zumaeta</cp:lastModifiedBy>
  <dcterms:modified xsi:type="dcterms:W3CDTF">2012-03-05T14:52:22Z</dcterms:modified>
  <cp:revision>3</cp:revision>
  <dc:subject/>
  <dc:title>Me llamo _______ Clase 6NH La fecha es el 29 de febrero del 2012</dc:title>
</cp:coreProperties>
</file>